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8DCC-2032-4D50-BCA8-4CC3C7B19B5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E0FB-11BF-4DEF-8C23-257780D35C7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F031-2B6A-409C-BE8A-61EE7B8B6CC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944F-1A85-4FAF-9688-CF3BFCA7525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E4C5-1F18-4EFF-83C5-643801AA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F9E2-067D-4367-8256-1E5BDE23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7F74-0EA0-46EE-A31C-A8941736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D9DC-C8C2-441D-AD43-E9CBC158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B2FB-CB11-4999-BFB5-8C6DA705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3026-F43A-49CC-AE65-9C1F522A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D943-A8A5-4CF7-AB76-802B5027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9DE2-AB99-437A-9BE4-8DC70E2C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5967-52D5-4061-BC52-2FAF7876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C889-EE3F-44C4-B204-1EC8B63E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7C9E-5DD1-41C7-9F7C-08494E42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0E4C-43DB-4136-ABCB-75D7E9E5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7F97-402A-4463-94E7-0A9B0EDCBE8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5"/>
          <p:cNvGraphicFramePr/>
          <p:nvPr/>
        </p:nvGraphicFramePr>
        <p:xfrm>
          <a:off x="1116000" y="692280"/>
          <a:ext cx="1655640" cy="7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692280"/>
                    <a:ext cx="165564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822240" y="2881800"/>
            <a:ext cx="757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  <a:ea typeface="黑体"/>
              </a:rPr>
              <a:t>3.4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实际问题与一元一次方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0" y="157176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三章 一元一次方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2808720" y="4025160"/>
            <a:ext cx="364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课时 球赛积分表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文本框 1"/>
          <p:cNvSpPr/>
          <p:nvPr/>
        </p:nvSpPr>
        <p:spPr>
          <a:xfrm>
            <a:off x="635040" y="619200"/>
            <a:ext cx="75294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例 </a:t>
            </a:r>
            <a:r>
              <a:rPr b="0" lang="en-US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某次篮球联赛共有十支队伍参赛，部分积分表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35040" y="2021040"/>
          <a:ext cx="7529400" cy="1947600"/>
        </p:xfrm>
        <a:graphic>
          <a:graphicData uri="http://schemas.openxmlformats.org/drawingml/2006/table">
            <a:tbl>
              <a:tblPr/>
              <a:tblGrid>
                <a:gridCol w="1714320"/>
                <a:gridCol w="1787760"/>
                <a:gridCol w="1317600"/>
                <a:gridCol w="1320840"/>
                <a:gridCol w="1388880"/>
              </a:tblGrid>
              <a:tr h="631800"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队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比赛场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胜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负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积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</a:tr>
              <a:tr h="438120"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bd5f6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38120"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bd5f6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39560"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bd5f6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11" name="文本框 3"/>
          <p:cNvSpPr/>
          <p:nvPr/>
        </p:nvSpPr>
        <p:spPr>
          <a:xfrm>
            <a:off x="544680" y="4168800"/>
            <a:ext cx="8380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根据表格提供的信息，你能求出胜一场、负一场各积多少分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4"/>
          <p:cNvSpPr/>
          <p:nvPr/>
        </p:nvSpPr>
        <p:spPr>
          <a:xfrm>
            <a:off x="544680" y="5207040"/>
            <a:ext cx="8523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分析：关键信息是由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C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队的积分得出等量关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 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胜场积分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+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负场积分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文本框 4"/>
          <p:cNvSpPr/>
          <p:nvPr/>
        </p:nvSpPr>
        <p:spPr>
          <a:xfrm>
            <a:off x="447840" y="1038240"/>
            <a:ext cx="85215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由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队的得分可知，胜场积分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负场积分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27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÷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9=3.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设胜一场积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分，则负一场积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3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-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分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"/>
          <p:cNvSpPr/>
          <p:nvPr/>
        </p:nvSpPr>
        <p:spPr>
          <a:xfrm>
            <a:off x="1873080" y="2127240"/>
            <a:ext cx="295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根据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队得分，可列方程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"/>
          <p:cNvSpPr/>
          <p:nvPr/>
        </p:nvSpPr>
        <p:spPr>
          <a:xfrm>
            <a:off x="2722680" y="2743200"/>
            <a:ext cx="271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4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4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3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-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)=3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3"/>
          <p:cNvSpPr/>
          <p:nvPr/>
        </p:nvSpPr>
        <p:spPr>
          <a:xfrm>
            <a:off x="1435320" y="3325680"/>
            <a:ext cx="283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得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则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-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5"/>
          <p:cNvSpPr/>
          <p:nvPr/>
        </p:nvSpPr>
        <p:spPr>
          <a:xfrm>
            <a:off x="414360" y="3848040"/>
            <a:ext cx="85233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答：胜一场积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分，则负一场积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分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6"/>
          <p:cNvSpPr/>
          <p:nvPr/>
        </p:nvSpPr>
        <p:spPr>
          <a:xfrm>
            <a:off x="2371320" y="4616280"/>
            <a:ext cx="48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想一想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某队的胜场总积分能等于它的负场总积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7"/>
          <p:cNvSpPr/>
          <p:nvPr/>
        </p:nvSpPr>
        <p:spPr>
          <a:xfrm>
            <a:off x="1898640" y="5241960"/>
            <a:ext cx="8128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能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8"/>
          <p:cNvSpPr/>
          <p:nvPr/>
        </p:nvSpPr>
        <p:spPr>
          <a:xfrm>
            <a:off x="2072880" y="5807160"/>
            <a:ext cx="52344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胜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场、负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场时，胜场总积分等于它的负场总积分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639720" y="1284120"/>
            <a:ext cx="75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某赛季篮球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联赛部分球队积分榜如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02"/>
          <p:cNvSpPr/>
          <p:nvPr/>
        </p:nvSpPr>
        <p:spPr>
          <a:xfrm>
            <a:off x="584280" y="4494240"/>
            <a:ext cx="79311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列式表示积分与胜、负场数之间的数量关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某队的胜场总积分能等于它的负场总积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84080" y="1890720"/>
          <a:ext cx="7529760" cy="2386080"/>
        </p:xfrm>
        <a:graphic>
          <a:graphicData uri="http://schemas.openxmlformats.org/drawingml/2006/table">
            <a:tbl>
              <a:tblPr/>
              <a:tblGrid>
                <a:gridCol w="1714680"/>
                <a:gridCol w="1787400"/>
                <a:gridCol w="1317600"/>
                <a:gridCol w="1320840"/>
                <a:gridCol w="1389240"/>
              </a:tblGrid>
              <a:tr h="631800"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队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比赛场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胜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负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积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</a:tr>
              <a:tr h="438120"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八一双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bd5f6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38120"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北京首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bd5f6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39920"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浙江万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bd5f6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38120"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沈部雄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bd5f6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25" name="圆角矩形 31"/>
          <p:cNvSpPr/>
          <p:nvPr/>
        </p:nvSpPr>
        <p:spPr>
          <a:xfrm>
            <a:off x="639720" y="620640"/>
            <a:ext cx="1225440" cy="44928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498600" y="853920"/>
            <a:ext cx="7991280" cy="55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观察积分榜，从最下面一行可知负一场积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分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设胜一场积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分，从表中其他任何一行可以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方程，求出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值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例如，从第一行得出方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      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8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×4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由此得出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   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所以，负一场积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分，胜一场积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分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如果一个队胜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场，则负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2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场，胜场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分为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负场积分为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总积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2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436680" y="1054080"/>
            <a:ext cx="820404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1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0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设一个队胜了</a:t>
            </a:r>
            <a:r>
              <a:rPr b="0" i="1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场，则负了</a:t>
            </a:r>
            <a:r>
              <a:rPr b="0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22</a:t>
            </a:r>
            <a:r>
              <a:rPr b="0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i="1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0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场，如果这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0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队的胜场总积分等于负场总积分，则有方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                               </a:t>
            </a:r>
            <a:r>
              <a:rPr b="0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i="1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=</a:t>
            </a:r>
            <a:r>
              <a:rPr b="0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2</a:t>
            </a:r>
            <a:r>
              <a:rPr b="0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i="1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0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对象 19459"/>
          <p:cNvGraphicFramePr/>
          <p:nvPr/>
        </p:nvGraphicFramePr>
        <p:xfrm>
          <a:off x="3360600" y="2905200"/>
          <a:ext cx="1128960" cy="9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对象 1945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0600" y="2905200"/>
                    <a:ext cx="112896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0" name="组合 5"/>
          <p:cNvGrpSpPr/>
          <p:nvPr/>
        </p:nvGrpSpPr>
        <p:grpSpPr>
          <a:xfrm>
            <a:off x="420840" y="3824280"/>
            <a:ext cx="8202600" cy="2424600"/>
            <a:chOff x="420840" y="3824280"/>
            <a:chExt cx="8202600" cy="2424600"/>
          </a:xfrm>
        </p:grpSpPr>
        <p:sp>
          <p:nvSpPr>
            <p:cNvPr id="131" name="Text Box 2"/>
            <p:cNvSpPr/>
            <p:nvPr/>
          </p:nvSpPr>
          <p:spPr>
            <a:xfrm>
              <a:off x="420840" y="3979440"/>
              <a:ext cx="8202600" cy="22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 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其中，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(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胜场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) 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的值必须是整数，所以             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 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符合实际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.  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由此可以判定没有哪个队伍的胜场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 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积分等于负场总积分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2" name="对象 2"/>
            <p:cNvGraphicFramePr/>
            <p:nvPr/>
          </p:nvGraphicFramePr>
          <p:xfrm>
            <a:off x="6900840" y="3824280"/>
            <a:ext cx="1041840" cy="918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3" name="对象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00840" y="3824280"/>
                      <a:ext cx="1041840" cy="91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46c0a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538200" y="982800"/>
            <a:ext cx="810432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某球队参加比赛，开局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9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场保持不败，积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1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比赛规则：胜一场得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分，平一场得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分，则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队共胜  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. 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场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. 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场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. 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场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. 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"/>
          <p:cNvSpPr/>
          <p:nvPr/>
        </p:nvSpPr>
        <p:spPr>
          <a:xfrm>
            <a:off x="7959960" y="2016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3"/>
          <p:cNvSpPr/>
          <p:nvPr/>
        </p:nvSpPr>
        <p:spPr>
          <a:xfrm>
            <a:off x="590400" y="3406680"/>
            <a:ext cx="81234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国男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B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职业联赛的积分办法是：胜一场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分，负一场积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分，某支球队参加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5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场比赛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总积分恰是所胜场数的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倍，则该球队共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4"/>
          <p:cNvSpPr/>
          <p:nvPr/>
        </p:nvSpPr>
        <p:spPr>
          <a:xfrm>
            <a:off x="7891920" y="4427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文本框 4"/>
          <p:cNvSpPr/>
          <p:nvPr/>
        </p:nvSpPr>
        <p:spPr>
          <a:xfrm>
            <a:off x="507960" y="996840"/>
            <a:ext cx="825804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某次知识竞赛共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道题，每答对一题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分，答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或不答要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某选手在这次竞赛中共得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16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那么他答对几道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5"/>
          <p:cNvSpPr/>
          <p:nvPr/>
        </p:nvSpPr>
        <p:spPr>
          <a:xfrm>
            <a:off x="828720" y="2917800"/>
            <a:ext cx="786744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设答对了 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道题，则有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2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道题答错或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答，由题意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8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2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)×3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16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得    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答：他答对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6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道题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814320" y="2168640"/>
          <a:ext cx="7632720" cy="3994200"/>
        </p:xfrm>
        <a:graphic>
          <a:graphicData uri="http://schemas.openxmlformats.org/drawingml/2006/table">
            <a:tbl>
              <a:tblPr/>
              <a:tblGrid>
                <a:gridCol w="1284480"/>
                <a:gridCol w="2376360"/>
                <a:gridCol w="1228680"/>
                <a:gridCol w="1451160"/>
                <a:gridCol w="1292040"/>
              </a:tblGrid>
              <a:tr h="576000"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队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比赛场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胜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负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积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</a:tr>
              <a:tr h="426960"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前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bd5f6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6960"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东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bd5f6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6960"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光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bd5f6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6960"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蓝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bd5f6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6960"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雄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bd5f6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6960"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远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bd5f6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6960"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卫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bd5f6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6960"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钢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bd5f6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42" name="文本框 3"/>
          <p:cNvSpPr/>
          <p:nvPr/>
        </p:nvSpPr>
        <p:spPr>
          <a:xfrm>
            <a:off x="374760" y="847800"/>
            <a:ext cx="8393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把互动探究中积分榜的最后一行删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下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如何求出胜一场积几分，负一场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4"/>
          <p:cNvSpPr/>
          <p:nvPr/>
        </p:nvSpPr>
        <p:spPr>
          <a:xfrm>
            <a:off x="682560" y="5729400"/>
            <a:ext cx="785016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文本框 1"/>
          <p:cNvSpPr/>
          <p:nvPr/>
        </p:nvSpPr>
        <p:spPr>
          <a:xfrm>
            <a:off x="457200" y="642960"/>
            <a:ext cx="8137440" cy="46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可以求出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从雄鹰队或远大队的积分可以看出胜一场与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一场共得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1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÷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7 = 3 (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分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设每队胜一场积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则负一场积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3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分，根据前进队的信息可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方程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0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 4(3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) = 2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得 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所以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答：胜一场积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分，负一场积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分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合 5"/>
          <p:cNvGrpSpPr/>
          <p:nvPr/>
        </p:nvGrpSpPr>
        <p:grpSpPr>
          <a:xfrm>
            <a:off x="6307920" y="5077800"/>
            <a:ext cx="2474280" cy="1465200"/>
            <a:chOff x="6307920" y="5077800"/>
            <a:chExt cx="2474280" cy="1465200"/>
          </a:xfrm>
        </p:grpSpPr>
        <p:sp>
          <p:nvSpPr>
            <p:cNvPr id="146" name="云形标注 2"/>
            <p:cNvSpPr/>
            <p:nvPr/>
          </p:nvSpPr>
          <p:spPr>
            <a:xfrm flipV="1" rot="21060000">
              <a:off x="6384600" y="5234040"/>
              <a:ext cx="2090520" cy="115236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文本框 3"/>
            <p:cNvSpPr/>
            <p:nvPr/>
          </p:nvSpPr>
          <p:spPr>
            <a:xfrm>
              <a:off x="6514920" y="5399280"/>
              <a:ext cx="2267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 </a:t>
              </a:r>
              <a:r>
                <a:rPr b="0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你还有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他的方法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"/>
                            </p:stCondLst>
                            <p:childTnLst>
                              <p:par>
                                <p:cTn id="4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80"/>
          <p:cNvSpPr/>
          <p:nvPr/>
        </p:nvSpPr>
        <p:spPr>
          <a:xfrm>
            <a:off x="0" y="58680"/>
            <a:ext cx="25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6c0a"/>
                </a:solidFill>
                <a:latin typeface="Arial"/>
                <a:ea typeface="方正姚体"/>
              </a:rPr>
              <a:t>课堂小结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1"/>
          <p:cNvSpPr/>
          <p:nvPr/>
        </p:nvSpPr>
        <p:spPr>
          <a:xfrm>
            <a:off x="620640" y="1527120"/>
            <a:ext cx="804060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决有关表格的问题时，首先要根据表格中给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相关信息，找出数量间的关系，然后再运用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学知识解决问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用方程解决实际问题时，要注意检验方程的解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否正确，且符合问题的实际意义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56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57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>
                  <a:gd name="textAreaLeft" fmla="*/ 0 w 88920"/>
                  <a:gd name="textAreaRight" fmla="*/ 88920 w 8892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学习目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矩形 11"/>
          <p:cNvSpPr/>
          <p:nvPr/>
        </p:nvSpPr>
        <p:spPr>
          <a:xfrm>
            <a:off x="539640" y="2133720"/>
            <a:ext cx="815040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通过对实际问题的探究，认识到生活中数据信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传递形式的多样性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会阅读、理解表格，并从表格中提取关键信息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重点、难点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掌握解决“球赛积分表问题”的一般思路，并会根据方程的解的情况对实际问题作出判断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  (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重点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难点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46c0a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1" descr=""/>
          <p:cNvPicPr/>
          <p:nvPr/>
        </p:nvPicPr>
        <p:blipFill>
          <a:blip r:embed="rId1"/>
          <a:stretch/>
        </p:blipFill>
        <p:spPr>
          <a:xfrm rot="21240000">
            <a:off x="745920" y="3018960"/>
            <a:ext cx="4103640" cy="3078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D:\Program Files\360浏览器\360se6\Application\User Data\temp\300001143928130425242742240_950.jpg"/>
          <p:cNvPicPr/>
          <p:nvPr/>
        </p:nvPicPr>
        <p:blipFill>
          <a:blip r:embed="rId2"/>
          <a:stretch/>
        </p:blipFill>
        <p:spPr>
          <a:xfrm rot="480000">
            <a:off x="5284800" y="1450440"/>
            <a:ext cx="3333600" cy="4762800"/>
          </a:xfrm>
          <a:prstGeom prst="rect">
            <a:avLst/>
          </a:prstGeom>
          <a:ln w="0">
            <a:noFill/>
          </a:ln>
        </p:spPr>
      </p:pic>
      <p:sp>
        <p:nvSpPr>
          <p:cNvPr id="64" name="文本框 2"/>
          <p:cNvSpPr/>
          <p:nvPr/>
        </p:nvSpPr>
        <p:spPr>
          <a:xfrm>
            <a:off x="504720" y="1346040"/>
            <a:ext cx="449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你喜欢看篮球比赛吗？你对篮球比赛中的积分规则有了解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圆角矩形 31"/>
          <p:cNvSpPr/>
          <p:nvPr/>
        </p:nvSpPr>
        <p:spPr>
          <a:xfrm>
            <a:off x="504720" y="612720"/>
            <a:ext cx="1889280" cy="61776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情境引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1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46c0a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组合 6147"/>
          <p:cNvGrpSpPr/>
          <p:nvPr/>
        </p:nvGrpSpPr>
        <p:grpSpPr>
          <a:xfrm>
            <a:off x="325440" y="246240"/>
            <a:ext cx="3029400" cy="869040"/>
            <a:chOff x="325440" y="246240"/>
            <a:chExt cx="3029400" cy="869040"/>
          </a:xfrm>
        </p:grpSpPr>
        <p:sp>
          <p:nvSpPr>
            <p:cNvPr id="68" name="矩形 7"/>
            <p:cNvSpPr/>
            <p:nvPr/>
          </p:nvSpPr>
          <p:spPr>
            <a:xfrm>
              <a:off x="885240" y="246240"/>
              <a:ext cx="1672920" cy="762480"/>
            </a:xfrm>
            <a:custGeom>
              <a:avLst/>
              <a:gdLst>
                <a:gd name="textAreaLeft" fmla="*/ 0 w 1672920"/>
                <a:gd name="textAreaRight" fmla="*/ 1673280 w 1672920"/>
                <a:gd name="textAreaTop" fmla="*/ 0 h 762480"/>
                <a:gd name="textAreaBottom" fmla="*/ 762840 h 762480"/>
              </a:gdLst>
              <a:ahLst/>
              <a:rect l="textAreaLeft" t="textAreaTop" r="textAreaRight" b="textAreaBottom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任意多边形 16"/>
            <p:cNvSpPr/>
            <p:nvPr/>
          </p:nvSpPr>
          <p:spPr>
            <a:xfrm>
              <a:off x="325440" y="534600"/>
              <a:ext cx="524520" cy="482760"/>
            </a:xfrm>
            <a:custGeom>
              <a:avLst/>
              <a:gdLst>
                <a:gd name="textAreaLeft" fmla="*/ 0 w 524520"/>
                <a:gd name="textAreaRight" fmla="*/ 524880 w 5245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文本框 6151"/>
            <p:cNvSpPr/>
            <p:nvPr/>
          </p:nvSpPr>
          <p:spPr>
            <a:xfrm>
              <a:off x="1467360" y="520200"/>
              <a:ext cx="188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比赛积分表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文本框 6152"/>
            <p:cNvSpPr/>
            <p:nvPr/>
          </p:nvSpPr>
          <p:spPr>
            <a:xfrm>
              <a:off x="325440" y="533880"/>
              <a:ext cx="553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4f81bd"/>
                  </a:solidFill>
                  <a:latin typeface="Arial"/>
                  <a:ea typeface="微软雅黑"/>
                </a:rPr>
                <a:t>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3" name=""/>
          <p:cNvGraphicFramePr/>
          <p:nvPr/>
        </p:nvGraphicFramePr>
        <p:xfrm>
          <a:off x="743040" y="2384280"/>
          <a:ext cx="7632720" cy="3994200"/>
        </p:xfrm>
        <a:graphic>
          <a:graphicData uri="http://schemas.openxmlformats.org/drawingml/2006/table">
            <a:tbl>
              <a:tblPr/>
              <a:tblGrid>
                <a:gridCol w="1284120"/>
                <a:gridCol w="2376720"/>
                <a:gridCol w="1228680"/>
                <a:gridCol w="1450800"/>
                <a:gridCol w="1292400"/>
              </a:tblGrid>
              <a:tr h="576000"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队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比赛场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胜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负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积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</a:tr>
              <a:tr h="426960"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前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bd5f6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6960"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东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bd5f6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6960"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光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bd5f6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6960"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蓝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bd5f6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6960"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雄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bd5f6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6960"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远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bd5f6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6960"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卫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bd5f6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6960"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钢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bd5f6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74" name="Text Box 5"/>
          <p:cNvSpPr/>
          <p:nvPr/>
        </p:nvSpPr>
        <p:spPr>
          <a:xfrm>
            <a:off x="606600" y="1687680"/>
            <a:ext cx="484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某次篮球联赛积分榜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 31"/>
          <p:cNvSpPr/>
          <p:nvPr/>
        </p:nvSpPr>
        <p:spPr>
          <a:xfrm>
            <a:off x="671400" y="1260360"/>
            <a:ext cx="1650960" cy="51444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互动探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28760" y="630360"/>
          <a:ext cx="4305240" cy="5686200"/>
        </p:xfrm>
        <a:graphic>
          <a:graphicData uri="http://schemas.openxmlformats.org/drawingml/2006/table">
            <a:tbl>
              <a:tblPr/>
              <a:tblGrid>
                <a:gridCol w="1000080"/>
                <a:gridCol w="1120680"/>
                <a:gridCol w="749160"/>
                <a:gridCol w="717840"/>
                <a:gridCol w="717480"/>
              </a:tblGrid>
              <a:tr h="1136520"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队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比赛场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胜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负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积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</a:tr>
              <a:tr h="569880"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前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bd5f6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68440"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东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bd5f6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69880"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光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bd5f6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66640"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蓝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bd5f6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69880"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雄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bd5f6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68440"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远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bd5f6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68440"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卫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bd5f6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68080"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钢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bd5f6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5"/>
          <p:cNvSpPr/>
          <p:nvPr/>
        </p:nvSpPr>
        <p:spPr>
          <a:xfrm>
            <a:off x="4875120" y="1060560"/>
            <a:ext cx="406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9999"/>
                </a:solidFill>
                <a:latin typeface="黑体"/>
                <a:ea typeface="黑体"/>
              </a:rPr>
              <a:t>问题</a:t>
            </a:r>
            <a:r>
              <a:rPr b="1" lang="en-US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1</a:t>
            </a:r>
            <a:r>
              <a:rPr b="0" lang="en-US" sz="2800" spc="-1" strike="noStrike">
                <a:solidFill>
                  <a:srgbClr val="269999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能从表格中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到哪些信息？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50"/>
          <p:cNvSpPr/>
          <p:nvPr/>
        </p:nvSpPr>
        <p:spPr>
          <a:xfrm>
            <a:off x="4875120" y="3571920"/>
            <a:ext cx="426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每队胜场总积分＋负场总积分＝这个队的总积分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51"/>
          <p:cNvSpPr/>
          <p:nvPr/>
        </p:nvSpPr>
        <p:spPr>
          <a:xfrm>
            <a:off x="4865760" y="2395440"/>
            <a:ext cx="414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每队的胜场数＋负场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这个队比赛场次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52"/>
          <p:cNvSpPr/>
          <p:nvPr/>
        </p:nvSpPr>
        <p:spPr>
          <a:xfrm>
            <a:off x="4865760" y="4883040"/>
            <a:ext cx="456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每队胜场总积分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胜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场得分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×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胜场数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5076720" y="1687680"/>
            <a:ext cx="380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问题</a:t>
            </a:r>
            <a:r>
              <a:rPr b="1" lang="en-US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2</a:t>
            </a:r>
            <a:r>
              <a:rPr b="0" lang="en-US" sz="2800" spc="-1" strike="noStrike">
                <a:solidFill>
                  <a:srgbClr val="269999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你能从表格中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出负一场积多少分吗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5153040" y="2998800"/>
            <a:ext cx="374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由钢铁队得分可知负一场积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28760" y="630360"/>
          <a:ext cx="4305240" cy="5686200"/>
        </p:xfrm>
        <a:graphic>
          <a:graphicData uri="http://schemas.openxmlformats.org/drawingml/2006/table">
            <a:tbl>
              <a:tblPr/>
              <a:tblGrid>
                <a:gridCol w="1000080"/>
                <a:gridCol w="1120680"/>
                <a:gridCol w="749160"/>
                <a:gridCol w="717840"/>
                <a:gridCol w="717480"/>
              </a:tblGrid>
              <a:tr h="1136520"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队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比赛场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胜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负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积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</a:tr>
              <a:tr h="569880"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前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bd5f6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68440"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东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bd5f6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69880"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光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bd5f6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66640"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蓝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bd5f6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69880"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雄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bd5f6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68440"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远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bd5f6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68440"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卫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bd5f6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68080"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钢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bd5f6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84" name="矩形 1"/>
          <p:cNvSpPr/>
          <p:nvPr/>
        </p:nvSpPr>
        <p:spPr>
          <a:xfrm>
            <a:off x="428760" y="5742000"/>
            <a:ext cx="4303440" cy="5763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121"/>
          <p:cNvSpPr/>
          <p:nvPr/>
        </p:nvSpPr>
        <p:spPr>
          <a:xfrm>
            <a:off x="0" y="6715080"/>
            <a:ext cx="4859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5100480" y="639720"/>
            <a:ext cx="377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问题</a:t>
            </a:r>
            <a:r>
              <a:rPr b="1" lang="en-US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3</a:t>
            </a:r>
            <a:r>
              <a:rPr b="0" lang="en-US" sz="2800" spc="-1" strike="noStrike">
                <a:solidFill>
                  <a:srgbClr val="269999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你能进一步算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胜一场积多少分吗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4859280" y="3297240"/>
            <a:ext cx="433728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设胜一场积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依题意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0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×4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得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经检验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符合题意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所以，胜一场积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分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57120" y="630360"/>
          <a:ext cx="4305240" cy="5686200"/>
        </p:xfrm>
        <a:graphic>
          <a:graphicData uri="http://schemas.openxmlformats.org/drawingml/2006/table">
            <a:tbl>
              <a:tblPr/>
              <a:tblGrid>
                <a:gridCol w="1000080"/>
                <a:gridCol w="1121040"/>
                <a:gridCol w="749160"/>
                <a:gridCol w="717480"/>
                <a:gridCol w="717480"/>
              </a:tblGrid>
              <a:tr h="1136520"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队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比赛场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胜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负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积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</a:tr>
              <a:tr h="569880"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前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bd5f6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68440"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东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bd5f6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69880"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光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bd5f6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66640"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蓝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bd5f6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69880"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雄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bd5f6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68440"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远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bd5f6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66640"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卫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bd5f6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69880"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钢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bd5f6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89" name="矩形 1"/>
          <p:cNvSpPr/>
          <p:nvPr/>
        </p:nvSpPr>
        <p:spPr>
          <a:xfrm>
            <a:off x="365040" y="1765440"/>
            <a:ext cx="4303800" cy="56664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186520" y="1698480"/>
            <a:ext cx="3546360" cy="45972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分析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设胜一场积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，根据表中其他任何一行可以列方程求解，这里以第一行为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5"/>
          <p:cNvSpPr/>
          <p:nvPr/>
        </p:nvSpPr>
        <p:spPr>
          <a:xfrm>
            <a:off x="560520" y="923760"/>
            <a:ext cx="7939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问题</a:t>
            </a:r>
            <a:r>
              <a:rPr b="1" lang="en-US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4</a:t>
            </a:r>
            <a:r>
              <a:rPr b="0" lang="en-US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怎样用式子表示总积分与胜、负场数之间的关系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961920" y="2270160"/>
            <a:ext cx="713592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若一个队胜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场，则负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14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场，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场积分为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负场积分为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4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积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407960" y="3997440"/>
            <a:ext cx="49374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m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 (14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) 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m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714680" y="4927680"/>
            <a:ext cx="533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即胜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场的总积分为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m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14)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分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>
            <a:off x="2989440" y="58593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574560" y="635040"/>
            <a:ext cx="77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问题</a:t>
            </a:r>
            <a:r>
              <a:rPr b="1" lang="en-US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5</a:t>
            </a:r>
            <a:r>
              <a:rPr b="0" lang="en-US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某队胜场总积分能等于它负场总积分吗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571680" y="1349280"/>
            <a:ext cx="75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设一个队胜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场，则负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14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290600" y="206532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依题意得      </a:t>
            </a:r>
            <a:r>
              <a:rPr b="0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i="1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4</a:t>
            </a:r>
            <a:r>
              <a:rPr b="0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i="1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组合 1"/>
          <p:cNvGrpSpPr/>
          <p:nvPr/>
        </p:nvGrpSpPr>
        <p:grpSpPr>
          <a:xfrm>
            <a:off x="1289160" y="2689200"/>
            <a:ext cx="7559640" cy="878040"/>
            <a:chOff x="1289160" y="2689200"/>
            <a:chExt cx="7559640" cy="878040"/>
          </a:xfrm>
        </p:grpSpPr>
        <p:sp>
          <p:nvSpPr>
            <p:cNvPr id="100" name="Text Box 5"/>
            <p:cNvSpPr/>
            <p:nvPr/>
          </p:nvSpPr>
          <p:spPr>
            <a:xfrm>
              <a:off x="1289160" y="2877120"/>
              <a:ext cx="755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解得   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          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＝ 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1" name="Object 3"/>
            <p:cNvGraphicFramePr/>
            <p:nvPr/>
          </p:nvGraphicFramePr>
          <p:xfrm>
            <a:off x="4001760" y="2689200"/>
            <a:ext cx="464040" cy="878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2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01760" y="2689200"/>
                      <a:ext cx="464040" cy="87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3" name="Text Box 149"/>
          <p:cNvSpPr/>
          <p:nvPr/>
        </p:nvSpPr>
        <p:spPr>
          <a:xfrm>
            <a:off x="573120" y="5424480"/>
            <a:ext cx="810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注意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决实际问题时，要考虑得到的结果是不是符合实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云形标注 8"/>
          <p:cNvSpPr/>
          <p:nvPr/>
        </p:nvSpPr>
        <p:spPr>
          <a:xfrm>
            <a:off x="5291280" y="1843200"/>
            <a:ext cx="2652480" cy="1541520"/>
          </a:xfrm>
          <a:prstGeom prst="cloudCallout">
            <a:avLst>
              <a:gd name="adj1" fmla="val -72018"/>
              <a:gd name="adj2" fmla="val 31458"/>
            </a:avLst>
          </a:prstGeom>
          <a:solidFill>
            <a:srgbClr val="9bbb5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x </a:t>
            </a:r>
            <a:r>
              <a:rPr b="0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表示什么量？它可以是分数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6"/>
          <p:cNvGrpSpPr/>
          <p:nvPr/>
        </p:nvGrpSpPr>
        <p:grpSpPr>
          <a:xfrm>
            <a:off x="1360440" y="3429000"/>
            <a:ext cx="6253200" cy="2652840"/>
            <a:chOff x="1360440" y="3429000"/>
            <a:chExt cx="6253200" cy="2652840"/>
          </a:xfrm>
        </p:grpSpPr>
        <p:sp>
          <p:nvSpPr>
            <p:cNvPr id="106" name="Text Box 5"/>
            <p:cNvSpPr/>
            <p:nvPr/>
          </p:nvSpPr>
          <p:spPr>
            <a:xfrm>
              <a:off x="1360440" y="3429000"/>
              <a:ext cx="6253200" cy="26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 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表示所胜的场数，必须是整数，所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＝      不符合实际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.   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由此可以判定没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哪个队的胜场总积分等于负场总积分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7" name="Object 133"/>
            <p:cNvGraphicFramePr/>
            <p:nvPr/>
          </p:nvGraphicFramePr>
          <p:xfrm>
            <a:off x="1983240" y="4036680"/>
            <a:ext cx="464040" cy="877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8" name="Object 13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83240" y="4036680"/>
                      <a:ext cx="464040" cy="87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Administrator</dc:creator>
  <dc:description/>
  <dc:language>en-US</dc:language>
  <cp:lastModifiedBy>Administrator</cp:lastModifiedBy>
  <dcterms:modified xsi:type="dcterms:W3CDTF">2018-08-16T13:18:30Z</dcterms:modified>
  <cp:revision>55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489</vt:lpwstr>
  </property>
</Properties>
</file>